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871236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02680" y="4323600"/>
            <a:ext cx="871236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268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40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8560" y="152388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080" y="152388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02680" y="432360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8560" y="432360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4080" y="432360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C91E-90A1-474B-AC37-994A85FEA3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2680" y="1523880"/>
            <a:ext cx="8712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9575-E351-48BF-85C9-86BF7DE50F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871236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8D69-7182-4870-9008-2DFBE8CC7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E769-D177-4FE6-9491-D84547545C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20DA-252A-4BA1-9B87-ABF1120BBC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41000" y="0"/>
            <a:ext cx="643572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F3D6-C7C6-4983-948A-441CB193B8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0268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979B-1DD0-451E-A93B-2E61D9882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02680" y="1523880"/>
            <a:ext cx="87123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740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49C6-0AA5-4797-AB83-9D04B3EECF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02680" y="4323600"/>
            <a:ext cx="871236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8FD7-2792-44A9-93CB-5A5F4CF447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871236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02680" y="4323600"/>
            <a:ext cx="871236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ED21-2296-4AE2-B45E-A8972D49F5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268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740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5567-3C22-4CEF-A2BC-851B52F002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48560" y="152388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080" y="152388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02680" y="432360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48560" y="432360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4080" y="4323600"/>
            <a:ext cx="280512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C073-D190-4B71-A32A-92B8EDB28E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871236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1000" y="0"/>
            <a:ext cx="643572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0268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400" y="432360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268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523880"/>
            <a:ext cx="425160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02680" y="4323600"/>
            <a:ext cx="8712360" cy="255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44760" y="3580920"/>
            <a:ext cx="43592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44760" y="4723920"/>
            <a:ext cx="4359240" cy="213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lvl="1" marL="756360" indent="-265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lvl="2" marL="1196280" indent="-264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lvl="3" marL="158148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lvl="4" marL="196704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lvl="5" marL="196704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  <a:p>
            <a:pPr lvl="6" marL="196704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02680" y="1523880"/>
            <a:ext cx="871236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82600" indent="-282600"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1" marL="822240" indent="-28872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2" marL="1300320" indent="-287640"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3" marL="1719360" indent="-228600">
              <a:spcBef>
                <a:spcPts val="7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4" marL="2138400" indent="-228600">
              <a:spcBef>
                <a:spcPts val="700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5" marL="2138400" indent="-228600">
              <a:spcBef>
                <a:spcPts val="700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6" marL="2138400" indent="-228600">
              <a:spcBef>
                <a:spcPts val="700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8D3B-1A15-4E45-93FB-37E4C2E896D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2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8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9080" y="6524640"/>
            <a:ext cx="9169560" cy="546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86160" y="-1440"/>
            <a:ext cx="88920" cy="3287520"/>
          </a:xfrm>
          <a:prstGeom prst="rect">
            <a:avLst/>
          </a:prstGeom>
          <a:solidFill>
            <a:srgbClr val="6db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4407" r="0" b="29413"/>
          <a:stretch/>
        </p:blipFill>
        <p:spPr>
          <a:xfrm>
            <a:off x="4286160" y="0"/>
            <a:ext cx="4857840" cy="321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92640" cy="32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3359160"/>
            <a:ext cx="88920" cy="316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211560"/>
            <a:ext cx="8892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6588000"/>
            <a:ext cx="1930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ober 03, 2011</a:t>
            </a: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44760" y="3580920"/>
            <a:ext cx="4359240" cy="1776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Bokashi kökskompostering</a:t>
            </a:r>
            <a:br>
              <a:rPr sz="3000"/>
            </a:br>
            <a:br>
              <a:rPr sz="3000"/>
            </a:br>
            <a:r>
              <a:rPr b="1" lang="en-US" sz="1400" spc="-1" strike="noStrike">
                <a:solidFill>
                  <a:srgbClr val="ffffff"/>
                </a:solidFill>
                <a:latin typeface="Lucida Grande"/>
              </a:rPr>
              <a:t>Jenny Harlen</a:t>
            </a:r>
            <a:endParaRPr b="1" lang="en-US" sz="1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6AAC-49AD-4F81-9657-B56D1593B0E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Rabatter och grönsaksland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rcRect l="2055" t="602" r="2354" b="626"/>
          <a:stretch/>
        </p:blipFill>
        <p:spPr>
          <a:xfrm>
            <a:off x="952560" y="1165320"/>
            <a:ext cx="7302600" cy="50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430A-3D86-4B2E-B808-AE85826CA1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4A9E-C5F1-4021-A359-EB01EC92D1D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Underbar jord!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0" y="1155600"/>
            <a:ext cx="7569360" cy="504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5B66-1B01-4E8C-8DAA-2FA9F7DC65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4280" y="203040"/>
            <a:ext cx="9055440" cy="60325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348-4CD9-40F5-A190-657F73527F2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632B-44C2-4CBF-BD69-34C36555D7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77E7-4B4B-4064-8683-34C230A984F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Sommarkrukor...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rcRect l="0" t="0" r="189" b="15566"/>
          <a:stretch/>
        </p:blipFill>
        <p:spPr>
          <a:xfrm>
            <a:off x="-1440" y="1174680"/>
            <a:ext cx="910728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0783-92FB-49DE-9F1E-8DBDECECCA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169-57D7-4A71-BD84-97E5E694E89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...och urnor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rcRect l="0" t="10510" r="279" b="6194"/>
          <a:stretch/>
        </p:blipFill>
        <p:spPr>
          <a:xfrm>
            <a:off x="12600" y="1143000"/>
            <a:ext cx="909324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5B39-889D-400F-9CC3-302371BF4E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313-EC73-40A4-B52F-33EE618B642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Pallkragar och odlingslådor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rcRect l="0" t="0" r="0" b="9152"/>
          <a:stretch/>
        </p:blipFill>
        <p:spPr>
          <a:xfrm>
            <a:off x="-7920" y="1130400"/>
            <a:ext cx="7088040" cy="509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A706-BAE9-40A2-BA9A-8DEE32A60E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2236" t="18905" r="13308" b="0"/>
          <a:stretch/>
        </p:blipFill>
        <p:spPr>
          <a:xfrm>
            <a:off x="2637000" y="1116000"/>
            <a:ext cx="7142040" cy="5138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5EEB-0A7A-4742-B6BC-0E8920B7BC5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Ett jordmakeri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-1440" y="1128600"/>
            <a:ext cx="34020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99F2-3485-4905-8E6C-0F952089ED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635" t="2846" r="6434" b="5061"/>
          <a:stretch/>
        </p:blipFill>
        <p:spPr>
          <a:xfrm>
            <a:off x="534960" y="1143000"/>
            <a:ext cx="7797960" cy="5156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F8D-58C9-4B00-B2DA-DBBD3D81BB5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Stadsodling i brödbackar!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1F93-5197-4A03-90E7-C579DF7E0D2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7F0-51D3-406E-8961-C95271A5DFC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57680" y="1625760"/>
            <a:ext cx="3479760" cy="151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Snigelfritt i murbruksbaljor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0" y="324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FA96-8577-400B-BAD4-F1D2E023FD5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rcRect l="635" t="2846" r="6434" b="5061"/>
          <a:stretch/>
        </p:blipFill>
        <p:spPr>
          <a:xfrm>
            <a:off x="522360" y="1143000"/>
            <a:ext cx="7797600" cy="5156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BD9A-1DB8-401D-8CA2-6DCA4D66E3C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Murbruksbaljor i växthuset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rcRect l="1358" t="10001" r="9878" b="14446"/>
          <a:stretch/>
        </p:blipFill>
        <p:spPr>
          <a:xfrm>
            <a:off x="-12600" y="1143000"/>
            <a:ext cx="913104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67A8-104B-46D6-8A86-DF4827E5A40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3629" r="0" b="0"/>
          <a:stretch/>
        </p:blipFill>
        <p:spPr>
          <a:xfrm>
            <a:off x="74520" y="20520"/>
            <a:ext cx="4889520" cy="7074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F456-E14A-477F-B33B-004777965FE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Vad är Bokashi?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8320" y="1393920"/>
            <a:ext cx="4071960" cy="528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-244440">
              <a:lnSpc>
                <a:spcPct val="100000"/>
              </a:lnSpc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Ett nytt sätt att ta hand om matavfal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Jäsning-syrning - inte rötning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EM – Effektiva Mikroorganismer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Utvecklat i Japan för 30 år sedan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Används i hela världen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8243-27CC-4A9B-BE9A-80823B19B79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0" r="0" b="8343"/>
          <a:stretch/>
        </p:blipFill>
        <p:spPr>
          <a:xfrm>
            <a:off x="5295960" y="1122480"/>
            <a:ext cx="3835440" cy="5271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21204" t="0" r="7510" b="0"/>
          <a:stretch/>
        </p:blipFill>
        <p:spPr>
          <a:xfrm>
            <a:off x="-285840" y="1052640"/>
            <a:ext cx="5550120" cy="519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B443-101D-4933-86FA-0E82001A984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Gör jord och plantera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F97D-792F-4E01-8B8F-15E547D1C12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9DF-10CB-496F-8A09-97E60DEECCD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Fina, friska grönsaker!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580" t="574" r="0" b="2538"/>
          <a:stretch/>
        </p:blipFill>
        <p:spPr>
          <a:xfrm>
            <a:off x="50760" y="1181160"/>
            <a:ext cx="7721640" cy="50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07BB-84C6-4B05-86C2-5EFDFA0DB62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9770-0586-46B1-AD20-17460FA9AAD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Varmkompost på vintern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rcRect l="0" t="7691" r="99" b="5152"/>
          <a:stretch/>
        </p:blipFill>
        <p:spPr>
          <a:xfrm>
            <a:off x="1339920" y="1136520"/>
            <a:ext cx="7789680" cy="509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10AF-BB1B-480E-B890-CC25484D89B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-2959200" y="1066680"/>
            <a:ext cx="8229600" cy="5486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1540-C9DA-45EE-A018-09B0C2DCBE2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Biopåsar på vintern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rcRect l="5891" t="1208" r="25800" b="1300"/>
          <a:stretch/>
        </p:blipFill>
        <p:spPr>
          <a:xfrm>
            <a:off x="4356000" y="1133640"/>
            <a:ext cx="473724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CFFE-244C-4EB8-8E28-484F075E1CB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0" t="0" r="3485" b="16427"/>
          <a:stretch/>
        </p:blipFill>
        <p:spPr>
          <a:xfrm>
            <a:off x="4794120" y="1143000"/>
            <a:ext cx="4400640" cy="50799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3412-3B2E-4F23-966C-647676B2035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Vintersäckar med löv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rcRect l="23548" t="0" r="0" b="0"/>
          <a:stretch/>
        </p:blipFill>
        <p:spPr>
          <a:xfrm>
            <a:off x="-12600" y="1136520"/>
            <a:ext cx="516888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61DD-6E8B-4BFF-9A1C-2E21AE236AF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183" t="1317" r="5843" b="46004"/>
          <a:stretch/>
        </p:blipFill>
        <p:spPr>
          <a:xfrm>
            <a:off x="5524560" y="3860640"/>
            <a:ext cx="3593880" cy="237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C4DF-125D-4470-BC48-D6E6E9BE3D3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En upptäckt från naturen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76200" y="1523880"/>
            <a:ext cx="5410080" cy="458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-244440">
              <a:lnSpc>
                <a:spcPct val="100000"/>
              </a:lnSpc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Teruo Higa, professor i mikrobiologi, Japan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Resultat av många års forskning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Mål: mer produktivt och naturligt jordbruk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Utvalda mikroorganismer samarbetar med varandra och med naturen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5514840" y="1143000"/>
            <a:ext cx="3629160" cy="2714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500800" y="3859200"/>
            <a:ext cx="88920" cy="2387520"/>
          </a:xfrm>
          <a:prstGeom prst="rect">
            <a:avLst/>
          </a:prstGeom>
          <a:solidFill>
            <a:srgbClr val="3d636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A649-9F1F-4A6C-9D3D-C330AF6BB3E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4CEB-5893-4C1F-B4D4-90E582FF9F6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rcRect l="18661" t="0" r="7394" b="0"/>
          <a:stretch/>
        </p:blipFill>
        <p:spPr>
          <a:xfrm>
            <a:off x="4143240" y="1143000"/>
            <a:ext cx="5000760" cy="5072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rcRect l="18518" t="0" r="13199" b="0"/>
          <a:stretch/>
        </p:blipFill>
        <p:spPr>
          <a:xfrm>
            <a:off x="0" y="1143000"/>
            <a:ext cx="4643280" cy="51004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2560" y="1428840"/>
            <a:ext cx="3505320" cy="914400"/>
          </a:xfrm>
          <a:prstGeom prst="rect">
            <a:avLst/>
          </a:prstGeom>
          <a:solidFill>
            <a:srgbClr val="3d636b"/>
          </a:solidFill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EM används i jordbruk…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5106960"/>
            <a:ext cx="3517920" cy="914400"/>
          </a:xfrm>
          <a:prstGeom prst="rect">
            <a:avLst/>
          </a:prstGeom>
          <a:solidFill>
            <a:srgbClr val="3d6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miljö och häls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A5E4-7F1B-45C5-A692-7B182CDE77B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B0D0-A579-4E1A-A654-13E62656FC0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"/>
          <a:srcRect l="0" t="0" r="0" b="12987"/>
          <a:stretch/>
        </p:blipFill>
        <p:spPr>
          <a:xfrm>
            <a:off x="0" y="1143000"/>
            <a:ext cx="3809880" cy="50720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-360" y="5143680"/>
            <a:ext cx="3505320" cy="914400"/>
          </a:xfrm>
          <a:prstGeom prst="rect">
            <a:avLst/>
          </a:prstGeom>
          <a:solidFill>
            <a:srgbClr val="3d636b"/>
          </a:solidFill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I Japan, Asien, Australien, NZ…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3786120" y="1143000"/>
            <a:ext cx="1571760" cy="2000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5357880" y="1143000"/>
            <a:ext cx="1643040" cy="20048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3786120" y="3143160"/>
            <a:ext cx="4714920" cy="30765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853240" y="4300560"/>
            <a:ext cx="3301920" cy="1054080"/>
          </a:xfrm>
          <a:prstGeom prst="rect">
            <a:avLst/>
          </a:prstGeom>
          <a:solidFill>
            <a:srgbClr val="3d6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uropa,</a:t>
            </a:r>
            <a:r>
              <a:rPr b="1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yd och Nordamerik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7000920" y="1143000"/>
            <a:ext cx="2146320" cy="203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6DBB-FBAC-4140-8097-43C962066AC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EE32-8CC3-41DC-AC51-AE637ECBA75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Gör vardagen lite grönare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36440" y="4355640"/>
            <a:ext cx="910584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-244440">
              <a:lnSpc>
                <a:spcPct val="100000"/>
              </a:lnSpc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Ta hand om ditt matavfall – återvinn lokalt!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Producera superjord hemma hos dig – gratis!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Visa våra barn att vi bryr oss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4"/>
          <a:srcRect l="0" t="14024" r="128" b="0"/>
          <a:stretch/>
        </p:blipFill>
        <p:spPr>
          <a:xfrm>
            <a:off x="2082960" y="1143000"/>
            <a:ext cx="4983120" cy="32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5AA3-E135-47C9-9412-EB841CE89ED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5D8A-7907-47A3-8966-B09E82C93A6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rcRect l="0" t="23783" r="0" b="21820"/>
          <a:stretch/>
        </p:blipFill>
        <p:spPr>
          <a:xfrm>
            <a:off x="0" y="11430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Mat och klimat för framtiden!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0" y="1141560"/>
            <a:ext cx="7072200" cy="50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61A7-111C-447B-B381-F4E89F886CC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6F29-99AB-4112-B799-7AF2189CDFB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Varför ska vi återvinna vårt matavfall?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2040" y="1571760"/>
            <a:ext cx="3733920" cy="5286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-244440">
              <a:lnSpc>
                <a:spcPct val="100000"/>
              </a:lnSpc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Mat = jord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Gammal mat kan bli ny jord 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Näråtervinning!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Kol i marken och inte i luften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Världen förlorar matjord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rcRect l="14789" t="0" r="14434" b="0"/>
          <a:stretch/>
        </p:blipFill>
        <p:spPr>
          <a:xfrm>
            <a:off x="0" y="1143000"/>
            <a:ext cx="4786200" cy="50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26F3-BF5B-4F54-9951-683528F2B8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29891" t="33567" r="1271" b="19195"/>
          <a:stretch/>
        </p:blipFill>
        <p:spPr>
          <a:xfrm>
            <a:off x="-63360" y="1104840"/>
            <a:ext cx="4965480" cy="5105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A90F-A182-427D-A354-9D2B5EF90B1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Varför är Bokashi och EM så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bra för växterna?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0920" y="1240920"/>
            <a:ext cx="4071960" cy="5286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-244440">
              <a:lnSpc>
                <a:spcPct val="100000"/>
              </a:lnSpc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Viktigt att mata jorden, inte växterna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Ekologisk gödsel = inga kemikalier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Mycket bra näring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Återställer mikrolivet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Förnyar trött jord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Växterna stortrivs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0D8A-6DDB-448C-A3D8-901A928B59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D89E-DCB1-40F3-9300-F9B14196C83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ALLA matrester ska med!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0920" y="1240920"/>
            <a:ext cx="4071960" cy="5286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-244440">
              <a:lnSpc>
                <a:spcPct val="100000"/>
              </a:lnSpc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Grönsaker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Kaffesump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Kött och fisk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Räkskal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Kycklingben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Ägg och avokado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Hushållspapper, servetter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rcRect l="28591" t="13590" r="17337" b="2411"/>
          <a:stretch/>
        </p:blipFill>
        <p:spPr>
          <a:xfrm>
            <a:off x="-11160" y="1136520"/>
            <a:ext cx="4888080" cy="50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EADE-6B77-4CE4-ACCF-9106737ECA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7754-C796-4DAE-8E05-8048647D900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Vad behövs?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20" y="1609200"/>
            <a:ext cx="4280040" cy="4559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-244440">
              <a:lnSpc>
                <a:spcPct val="100000"/>
              </a:lnSpc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Hinkar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1" marL="822240" indent="-28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Kranhinkar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lvl="1" marL="822240" indent="-28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”</a:t>
            </a: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Gröna hinkar”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EM Bokashiströ</a:t>
            </a: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ヒラギノ角ゴ ProN W3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1" marL="822240" indent="-288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1-2 matskedar om dagen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-24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Någonstans att använda jorden!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rcRect l="37441" t="16188" r="21576" b="24741"/>
          <a:stretch/>
        </p:blipFill>
        <p:spPr>
          <a:xfrm>
            <a:off x="4140360" y="1130400"/>
            <a:ext cx="5259240" cy="50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846D-0F12-4D4B-B33A-86F977E80B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DEA7-AEC0-411B-8FB7-055B5675BB4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Hur gör man?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680" y="1498320"/>
            <a:ext cx="4063680" cy="5359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4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1. Fyll hinken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2. Jäsning 2 veckor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3. Omvandla till jord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244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Grande"/>
              </a:rPr>
              <a:t>ENKELT – BILLIGT -- EKOLOGISKT</a:t>
            </a:r>
            <a:endParaRPr b="0" lang="en-US" sz="1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rcRect l="9082" t="811" r="21375" b="0"/>
          <a:stretch/>
        </p:blipFill>
        <p:spPr>
          <a:xfrm>
            <a:off x="4778280" y="1138320"/>
            <a:ext cx="405468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0A4B-E3A2-491A-B332-3118FDD5CD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Kompakt och torrt i hinken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386A-1BBB-45D2-8A13-377D32B9170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rcRect l="0" t="129" r="18782" b="0"/>
          <a:stretch/>
        </p:blipFill>
        <p:spPr>
          <a:xfrm>
            <a:off x="3706920" y="1128600"/>
            <a:ext cx="5437080" cy="446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-1908000" y="1123920"/>
            <a:ext cx="67420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C1E4-2A1A-4D7E-B64C-06C6961239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50760" y="-76320"/>
            <a:ext cx="916920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24144" r="0" b="20689"/>
          <a:stretch/>
        </p:blipFill>
        <p:spPr>
          <a:xfrm>
            <a:off x="7072200" y="0"/>
            <a:ext cx="207036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-1741320" y="6208560"/>
            <a:ext cx="10874160" cy="64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6213600"/>
            <a:ext cx="88920" cy="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88920" cy="510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1000" y="0"/>
            <a:ext cx="6435720" cy="105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Lucida Grande"/>
              </a:rPr>
              <a:t>Växtnäring -- ska spädas! </a:t>
            </a:r>
            <a:endParaRPr b="1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685000" y="6565680"/>
            <a:ext cx="2300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3844-6688-4E22-8E7D-F543E0E692B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8769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44440" indent="-244440" algn="ctr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9878" t="22592" r="863" b="3702"/>
          <a:stretch/>
        </p:blipFill>
        <p:spPr>
          <a:xfrm>
            <a:off x="-12600" y="1143000"/>
            <a:ext cx="9182160" cy="505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1105-017B-4E89-B309-CD0C8203C1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wa</dc:creator>
  <dc:description/>
  <dc:language>en-US</dc:language>
  <cp:lastModifiedBy/>
  <cp:revision>0</cp:revision>
  <dc:subject/>
  <dc:title>Vision</dc:title>
</cp:coreProperties>
</file>